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B6E-17D4-49DB-AC7E-28A857B2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8EC-E094-467B-BA26-9B2B4F6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B57-327C-43F8-9D31-F9817A89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E9B-329B-4C0E-BDA4-804D13D3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8488-9C15-49C0-B3A2-AEAD1B79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EE4-7AB2-4F9E-A064-27F6D843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E17C-EFD8-447E-B5A3-D871B4D5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05E5-7AA8-4B67-A67A-014F7D93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BF54-DAF3-4170-9643-D7EFF3F8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740C-8D3B-42D0-9DA3-DB5E494A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735-9C79-440B-95C1-AD5F210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60F-2344-4439-83C5-C0EC0568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63F7-B7F0-4538-B45A-D7A18342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7421-9EBF-44FB-B2ED-531ADF7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DF30-7762-4FBD-9506-20784616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14C6-A088-49F8-9787-4111EB0A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90D7-0A05-439B-9D59-2E86B5FD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81F2-D993-4D6B-8CF0-F8A6CF74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651E-0DBE-4729-A1AB-D12CD1C4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3F57-80F1-4532-9335-B6B833ED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9537-DF64-456B-B746-AA2B9CBC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9A8E-5079-4466-B5AF-6D37D296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D6E-AAEB-47CE-9504-7C9D0BCC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0882-D104-4F85-BE2D-5CF34B80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E535-6409-4996-9E37-9B2FA5F7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1A985-6D21-49C5-A316-BD5E649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4F81-47E2-435B-9C43-5285BD5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DB66-FCA7-456B-8192-99E8C3BF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7D4C2-8EAA-420E-B02B-1C7EE7D2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8759-E6F7-47F8-B525-D562BC08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A41F-A49B-4EDC-8593-A0980A95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D75A-7204-42F3-A5FF-712E43D1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B29F3-E2FE-4419-ABDD-BE85FD03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D4E-BDDD-49CF-BEE2-4E139BD6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0F623-FB3A-4BA9-8236-8A88F512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2D4B7-D601-4ECA-B62A-EAA4E82C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1F9D5-20E0-40F2-A671-B2B46DE3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8EAC-D45D-4856-8509-1C2ACAC3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0C8D-E36B-4541-8CB6-CEA7F73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26B3-C889-4A2C-AB95-C753C042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D5342-B111-4BE5-8E8A-60F125B8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9C68-856D-47EA-BA0F-5B9201B9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5906-4081-46DE-986A-18725F32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FF8-D885-4CD9-BC26-EFD76085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FF5-05A1-4AA1-B5B5-E5B2E5BD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7EB-F248-4C5A-9819-69954CF8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0D7-A88E-4EBF-99A7-426415D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F33-9B76-4FF4-B1D3-87C9AD4E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AFDE-271D-4B04-B826-5C0CB097EF1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6B8B-DF30-41BF-A465-58136382BD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A07-CCE0-4DCC-93EA-2B883E317F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7F02-A94F-4C57-A4FD-5F0A6E7CA5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733560" y="3200400"/>
            <a:ext cx="2361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l D. Rober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Diffusion Process for V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Oval 3"/>
          <p:cNvSpPr/>
          <p:nvPr/>
        </p:nvSpPr>
        <p:spPr>
          <a:xfrm>
            <a:off x="3733920" y="1981080"/>
            <a:ext cx="1676160" cy="1143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0" name="Straight Arrow Connector 5"/>
          <p:cNvCxnSpPr>
            <a:stCxn id="199" idx="2"/>
          </p:cNvCxnSpPr>
          <p:nvPr/>
        </p:nvCxnSpPr>
        <p:spPr>
          <a:xfrm flipH="1">
            <a:off x="1676160" y="2551680"/>
            <a:ext cx="2057760" cy="5720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1" name="Rectangle 7"/>
          <p:cNvSpPr/>
          <p:nvPr/>
        </p:nvSpPr>
        <p:spPr>
          <a:xfrm>
            <a:off x="457200" y="2895480"/>
            <a:ext cx="121932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Rounded Rectangle 10"/>
          <p:cNvSpPr/>
          <p:nvPr/>
        </p:nvSpPr>
        <p:spPr>
          <a:xfrm>
            <a:off x="457200" y="480060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own Arrow 11"/>
          <p:cNvSpPr/>
          <p:nvPr/>
        </p:nvSpPr>
        <p:spPr>
          <a:xfrm>
            <a:off x="609480" y="38098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14"/>
          <p:cNvCxnSpPr/>
          <p:nvPr/>
        </p:nvCxnSpPr>
        <p:spPr>
          <a:xfrm flipV="1">
            <a:off x="1371240" y="4343040"/>
            <a:ext cx="686520" cy="534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5" name="Isosceles Triangle 15"/>
          <p:cNvSpPr/>
          <p:nvPr/>
        </p:nvSpPr>
        <p:spPr>
          <a:xfrm>
            <a:off x="1676520" y="3048120"/>
            <a:ext cx="2590560" cy="1295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6" name="Straight Arrow Connector 17"/>
          <p:cNvCxnSpPr/>
          <p:nvPr/>
        </p:nvCxnSpPr>
        <p:spPr>
          <a:xfrm>
            <a:off x="1295280" y="5714640"/>
            <a:ext cx="53424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7" name="Isosceles Triangle 18"/>
          <p:cNvSpPr/>
          <p:nvPr/>
        </p:nvSpPr>
        <p:spPr>
          <a:xfrm>
            <a:off x="1371600" y="5410080"/>
            <a:ext cx="3429000" cy="91440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Videograp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8" name="Straight Arrow Connector 20"/>
          <p:cNvCxnSpPr>
            <a:stCxn id="202" idx="3"/>
          </p:cNvCxnSpPr>
          <p:nvPr/>
        </p:nvCxnSpPr>
        <p:spPr>
          <a:xfrm flipV="1">
            <a:off x="1676160" y="4952160"/>
            <a:ext cx="6102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9" name="Isosceles Triangle 21"/>
          <p:cNvSpPr/>
          <p:nvPr/>
        </p:nvSpPr>
        <p:spPr>
          <a:xfrm>
            <a:off x="1905120" y="4419720"/>
            <a:ext cx="2133360" cy="91440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4648320" y="4800600"/>
            <a:ext cx="144756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mmercializ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ight Arrow 23"/>
          <p:cNvSpPr/>
          <p:nvPr/>
        </p:nvSpPr>
        <p:spPr>
          <a:xfrm>
            <a:off x="6324480" y="5181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ie 24"/>
          <p:cNvSpPr/>
          <p:nvPr/>
        </p:nvSpPr>
        <p:spPr>
          <a:xfrm>
            <a:off x="7315200" y="4495680"/>
            <a:ext cx="1371600" cy="19051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cep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3" name="Straight Arrow Connector 26"/>
          <p:cNvCxnSpPr/>
          <p:nvPr/>
        </p:nvCxnSpPr>
        <p:spPr>
          <a:xfrm>
            <a:off x="2971440" y="3809880"/>
            <a:ext cx="1600920" cy="1372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4" name="Straight Arrow Connector 28"/>
          <p:cNvCxnSpPr>
            <a:stCxn id="209" idx="5"/>
            <a:endCxn id="210" idx="1"/>
          </p:cNvCxnSpPr>
          <p:nvPr/>
        </p:nvCxnSpPr>
        <p:spPr>
          <a:xfrm>
            <a:off x="3504960" y="4876920"/>
            <a:ext cx="1143720" cy="381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5" name="Straight Arrow Connector 30"/>
          <p:cNvCxnSpPr>
            <a:stCxn id="207" idx="5"/>
          </p:cNvCxnSpPr>
          <p:nvPr/>
        </p:nvCxnSpPr>
        <p:spPr>
          <a:xfrm flipV="1">
            <a:off x="3943440" y="5409720"/>
            <a:ext cx="62928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27:26Z</dcterms:created>
  <dc:creator>HP Authorized Customer</dc:creator>
  <dc:description/>
  <dc:language>en-US</dc:language>
  <cp:lastModifiedBy>HP Authorized Customer</cp:lastModifiedBy>
  <dcterms:modified xsi:type="dcterms:W3CDTF">2010-05-03T03:23:53Z</dcterms:modified>
  <cp:revision>6</cp:revision>
  <dc:subject/>
  <dc:title>Video on Demand</dc:title>
</cp:coreProperties>
</file>